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itle 1"/>
          <p:cNvSpPr/>
          <p:nvPr/>
        </p:nvSpPr>
        <p:spPr>
          <a:xfrm>
            <a:off x="914400" y="565200"/>
            <a:ext cx="103633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Lato"/>
              </a:rPr>
              <a:t>BEFORE YOU DO ANYTH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Rectangle 3"/>
          <p:cNvSpPr/>
          <p:nvPr/>
        </p:nvSpPr>
        <p:spPr>
          <a:xfrm>
            <a:off x="1731960" y="1500120"/>
            <a:ext cx="88250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ato"/>
              </a:rPr>
              <a:t>Install the all fonts, which is free and can be downloaded he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https://www.downloadfonts.io/gotham-font-family-free/ https://www.fontsquirrel.com/fonts/popp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ato"/>
              </a:rPr>
              <a:t>DOWNLOAD FULL VER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https://crmrkt.com/yOKb9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ato"/>
                <a:ea typeface="Open Sans"/>
              </a:rPr>
              <a:t>MORE ST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57a5"/>
                </a:solidFill>
                <a:latin typeface="Lato"/>
                <a:ea typeface="Open Sans"/>
              </a:rPr>
              <a:t>https://creativemarket.com/lucky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57a5"/>
                </a:solidFill>
                <a:latin typeface="Lato"/>
                <a:ea typeface="Open Sans"/>
              </a:rPr>
              <a:t>https://graphicriver.net/user/luckysign/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ato"/>
                <a:ea typeface="Open Sans"/>
              </a:rPr>
              <a:t>DONA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57a5"/>
                </a:solidFill>
                <a:latin typeface="Lato"/>
                <a:ea typeface="Open Sans"/>
              </a:rPr>
              <a:t>paypal.me/LuthfyDu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2f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Freeform 5"/>
          <p:cNvSpPr/>
          <p:nvPr/>
        </p:nvSpPr>
        <p:spPr>
          <a:xfrm>
            <a:off x="6480" y="3755880"/>
            <a:ext cx="12185640" cy="3102120"/>
          </a:xfrm>
          <a:custGeom>
            <a:avLst/>
            <a:gdLst/>
            <a:ahLst/>
            <a:rect l="l" t="t" r="r" b="b"/>
            <a:pathLst>
              <a:path w="7972" h="2029">
                <a:moveTo>
                  <a:pt x="0" y="0"/>
                </a:moveTo>
                <a:lnTo>
                  <a:pt x="0" y="2029"/>
                </a:lnTo>
                <a:lnTo>
                  <a:pt x="7972" y="2029"/>
                </a:lnTo>
                <a:lnTo>
                  <a:pt x="7972" y="1640"/>
                </a:lnTo>
                <a:lnTo>
                  <a:pt x="0" y="0"/>
                </a:lnTo>
                <a:close/>
              </a:path>
            </a:pathLst>
          </a:custGeom>
          <a:solidFill>
            <a:srgbClr val="72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" name="Group 35"/>
          <p:cNvGrpSpPr/>
          <p:nvPr/>
        </p:nvGrpSpPr>
        <p:grpSpPr>
          <a:xfrm>
            <a:off x="1687680" y="1222200"/>
            <a:ext cx="3474720" cy="4608720"/>
            <a:chOff x="1687680" y="1222200"/>
            <a:chExt cx="3474720" cy="4608720"/>
          </a:xfrm>
        </p:grpSpPr>
        <p:sp>
          <p:nvSpPr>
            <p:cNvPr id="40" name="Freeform 33"/>
            <p:cNvSpPr/>
            <p:nvPr/>
          </p:nvSpPr>
          <p:spPr>
            <a:xfrm>
              <a:off x="1687680" y="1222200"/>
              <a:ext cx="3474720" cy="3614400"/>
            </a:xfrm>
            <a:custGeom>
              <a:avLst/>
              <a:gdLst/>
              <a:ahLst/>
              <a:rect l="l" t="t" r="r" b="b"/>
              <a:pathLst>
                <a:path w="3770142" h="3921802">
                  <a:moveTo>
                    <a:pt x="0" y="0"/>
                  </a:moveTo>
                  <a:lnTo>
                    <a:pt x="3770142" y="0"/>
                  </a:lnTo>
                  <a:lnTo>
                    <a:pt x="3770142" y="3921802"/>
                  </a:lnTo>
                  <a:lnTo>
                    <a:pt x="0" y="3146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Freeform 34"/>
            <p:cNvSpPr/>
            <p:nvPr/>
          </p:nvSpPr>
          <p:spPr>
            <a:xfrm>
              <a:off x="1687680" y="4115160"/>
              <a:ext cx="3474720" cy="1715760"/>
            </a:xfrm>
            <a:custGeom>
              <a:avLst/>
              <a:gdLst/>
              <a:ahLst/>
              <a:rect l="l" t="t" r="r" b="b"/>
              <a:pathLst>
                <a:path w="3770142" h="1861890">
                  <a:moveTo>
                    <a:pt x="0" y="0"/>
                  </a:moveTo>
                  <a:lnTo>
                    <a:pt x="3770142" y="775594"/>
                  </a:lnTo>
                  <a:lnTo>
                    <a:pt x="3770142" y="1861890"/>
                  </a:lnTo>
                  <a:lnTo>
                    <a:pt x="0" y="18618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b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280" y="448920"/>
            <a:ext cx="11074320" cy="59230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3" name="TextBox 36"/>
          <p:cNvSpPr/>
          <p:nvPr/>
        </p:nvSpPr>
        <p:spPr>
          <a:xfrm>
            <a:off x="324000" y="62643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Light"/>
                <a:ea typeface="Source Sans Pro Light"/>
              </a:rPr>
              <a:t>CREATIVE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095880" y="4127400"/>
            <a:ext cx="542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Light"/>
                <a:ea typeface="Source Sans Pro Light"/>
              </a:rPr>
              <a:t>CREATIVE PRESENTATION TEMPL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3"/>
          <p:cNvSpPr/>
          <p:nvPr/>
        </p:nvSpPr>
        <p:spPr>
          <a:xfrm>
            <a:off x="6095880" y="1647720"/>
            <a:ext cx="542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otham Ultra"/>
                <a:ea typeface="Roboto"/>
              </a:rPr>
              <a:t>FU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6"/>
          <p:cNvSpPr/>
          <p:nvPr/>
        </p:nvSpPr>
        <p:spPr>
          <a:xfrm>
            <a:off x="6095880" y="2668680"/>
            <a:ext cx="542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otham Ultra"/>
                <a:ea typeface="Roboto"/>
              </a:rPr>
              <a:t>TASTI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nut 10"/>
          <p:cNvSpPr/>
          <p:nvPr/>
        </p:nvSpPr>
        <p:spPr>
          <a:xfrm>
            <a:off x="10987200" y="652320"/>
            <a:ext cx="536400" cy="536760"/>
          </a:xfrm>
          <a:custGeom>
            <a:avLst/>
            <a:gdLst/>
            <a:ahLst/>
            <a:rect l="l" t="t" r="r" b="b"/>
            <a:pathLst>
              <a:path w="536618" h="536618">
                <a:moveTo>
                  <a:pt x="0" y="268309"/>
                </a:moveTo>
                <a:cubicBezTo>
                  <a:pt x="0" y="120126"/>
                  <a:pt x="120126" y="0"/>
                  <a:pt x="268309" y="0"/>
                </a:cubicBezTo>
                <a:cubicBezTo>
                  <a:pt x="416492" y="0"/>
                  <a:pt x="536618" y="120126"/>
                  <a:pt x="536618" y="268309"/>
                </a:cubicBezTo>
                <a:cubicBezTo>
                  <a:pt x="536618" y="416492"/>
                  <a:pt x="416492" y="536618"/>
                  <a:pt x="268309" y="536618"/>
                </a:cubicBezTo>
                <a:cubicBezTo>
                  <a:pt x="120126" y="536618"/>
                  <a:pt x="0" y="416492"/>
                  <a:pt x="0" y="268309"/>
                </a:cubicBezTo>
                <a:close/>
                <a:moveTo>
                  <a:pt x="85354" y="268309"/>
                </a:moveTo>
                <a:cubicBezTo>
                  <a:pt x="85354" y="369352"/>
                  <a:pt x="167266" y="451264"/>
                  <a:pt x="268309" y="451264"/>
                </a:cubicBezTo>
                <a:cubicBezTo>
                  <a:pt x="369352" y="451264"/>
                  <a:pt x="451264" y="369352"/>
                  <a:pt x="451264" y="268309"/>
                </a:cubicBezTo>
                <a:cubicBezTo>
                  <a:pt x="451264" y="167266"/>
                  <a:pt x="369352" y="85354"/>
                  <a:pt x="268309" y="85354"/>
                </a:cubicBezTo>
                <a:cubicBezTo>
                  <a:pt x="167266" y="85354"/>
                  <a:pt x="85354" y="167266"/>
                  <a:pt x="85354" y="268309"/>
                </a:cubicBezTo>
                <a:close/>
              </a:path>
            </a:pathLst>
          </a:custGeom>
          <a:solidFill>
            <a:srgbClr val="ffa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Multiply 11"/>
          <p:cNvSpPr/>
          <p:nvPr/>
        </p:nvSpPr>
        <p:spPr>
          <a:xfrm rot="2208000">
            <a:off x="5327280" y="5705640"/>
            <a:ext cx="696960" cy="696600"/>
          </a:xfrm>
          <a:custGeom>
            <a:avLst/>
            <a:gdLst/>
            <a:ahLst/>
            <a:rect l="l" t="t" r="r" b="b"/>
            <a:pathLst>
              <a:path w="696686" h="696686">
                <a:moveTo>
                  <a:pt x="135052" y="199601"/>
                </a:moveTo>
                <a:lnTo>
                  <a:pt x="199601" y="135052"/>
                </a:lnTo>
                <a:lnTo>
                  <a:pt x="348343" y="283794"/>
                </a:lnTo>
                <a:lnTo>
                  <a:pt x="497085" y="135052"/>
                </a:lnTo>
                <a:lnTo>
                  <a:pt x="561634" y="199601"/>
                </a:lnTo>
                <a:lnTo>
                  <a:pt x="412892" y="348343"/>
                </a:lnTo>
                <a:lnTo>
                  <a:pt x="561634" y="497085"/>
                </a:lnTo>
                <a:lnTo>
                  <a:pt x="497085" y="561634"/>
                </a:lnTo>
                <a:lnTo>
                  <a:pt x="348343" y="412892"/>
                </a:lnTo>
                <a:lnTo>
                  <a:pt x="199601" y="561634"/>
                </a:lnTo>
                <a:lnTo>
                  <a:pt x="135052" y="497085"/>
                </a:lnTo>
                <a:lnTo>
                  <a:pt x="283794" y="348343"/>
                </a:lnTo>
                <a:lnTo>
                  <a:pt x="135052" y="1996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5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1"/>
          <p:cNvSpPr/>
          <p:nvPr/>
        </p:nvSpPr>
        <p:spPr>
          <a:xfrm>
            <a:off x="-1744560" y="4437000"/>
            <a:ext cx="3489120" cy="3489480"/>
          </a:xfrm>
          <a:prstGeom prst="ellipse">
            <a:avLst/>
          </a:prstGeom>
          <a:solidFill>
            <a:srgbClr val="ffa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: Shape 48"/>
          <p:cNvSpPr/>
          <p:nvPr/>
        </p:nvSpPr>
        <p:spPr>
          <a:xfrm>
            <a:off x="10026720" y="-1751040"/>
            <a:ext cx="4330800" cy="4330800"/>
          </a:xfrm>
          <a:custGeom>
            <a:avLst/>
            <a:gdLst/>
            <a:ahLst/>
            <a:rect l="l" t="t" r="r" b="b"/>
            <a:pathLst>
              <a:path w="5596274" h="5596274">
                <a:moveTo>
                  <a:pt x="2798136" y="917792"/>
                </a:moveTo>
                <a:cubicBezTo>
                  <a:pt x="1759651" y="917792"/>
                  <a:pt x="917792" y="1759651"/>
                  <a:pt x="917792" y="2798136"/>
                </a:cubicBezTo>
                <a:cubicBezTo>
                  <a:pt x="917792" y="3836621"/>
                  <a:pt x="1759651" y="4678480"/>
                  <a:pt x="2798136" y="4678480"/>
                </a:cubicBezTo>
                <a:cubicBezTo>
                  <a:pt x="3836621" y="4678480"/>
                  <a:pt x="4678480" y="3836621"/>
                  <a:pt x="4678480" y="2798136"/>
                </a:cubicBezTo>
                <a:cubicBezTo>
                  <a:pt x="4678480" y="1759651"/>
                  <a:pt x="3836621" y="917792"/>
                  <a:pt x="2798136" y="917792"/>
                </a:cubicBezTo>
                <a:close/>
                <a:moveTo>
                  <a:pt x="2798137" y="0"/>
                </a:moveTo>
                <a:cubicBezTo>
                  <a:pt x="4343505" y="0"/>
                  <a:pt x="5596274" y="1252769"/>
                  <a:pt x="5596274" y="2798137"/>
                </a:cubicBezTo>
                <a:cubicBezTo>
                  <a:pt x="5596274" y="4343505"/>
                  <a:pt x="4343505" y="5596274"/>
                  <a:pt x="2798137" y="5596274"/>
                </a:cubicBezTo>
                <a:cubicBezTo>
                  <a:pt x="1252769" y="5596274"/>
                  <a:pt x="0" y="4343505"/>
                  <a:pt x="0" y="2798137"/>
                </a:cubicBezTo>
                <a:cubicBezTo>
                  <a:pt x="0" y="1252769"/>
                  <a:pt x="1252769" y="0"/>
                  <a:pt x="2798137" y="0"/>
                </a:cubicBezTo>
                <a:close/>
              </a:path>
            </a:pathLst>
          </a:custGeom>
          <a:solidFill>
            <a:srgbClr val="55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8"/>
          <p:cNvGrpSpPr/>
          <p:nvPr/>
        </p:nvGrpSpPr>
        <p:grpSpPr>
          <a:xfrm>
            <a:off x="4533840" y="3922560"/>
            <a:ext cx="4025880" cy="778680"/>
            <a:chOff x="4533840" y="3922560"/>
            <a:chExt cx="4025880" cy="778680"/>
          </a:xfrm>
        </p:grpSpPr>
        <p:sp>
          <p:nvSpPr>
            <p:cNvPr id="52" name="Rectangle 13"/>
            <p:cNvSpPr/>
            <p:nvPr/>
          </p:nvSpPr>
          <p:spPr>
            <a:xfrm>
              <a:off x="5415480" y="3922560"/>
              <a:ext cx="31442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Poppins Light"/>
                  <a:ea typeface="Poppins Light"/>
                </a:rPr>
                <a:t>Lorem ipsum dolor sit amet, consectetur adipiscing elit. Proin mollis neque sit amet volutpat dictum</a:t>
              </a:r>
              <a:r>
                <a:rPr b="0" lang="id-ID" sz="1000" spc="-1" strike="noStrike">
                  <a:solidFill>
                    <a:srgbClr val="ffffff"/>
                  </a:solidFill>
                  <a:latin typeface="Poppins Light"/>
                  <a:ea typeface="Poppins Light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16"/>
            <p:cNvSpPr/>
            <p:nvPr/>
          </p:nvSpPr>
          <p:spPr>
            <a:xfrm>
              <a:off x="4533840" y="3922560"/>
              <a:ext cx="1166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4400" spc="-1" strike="noStrike">
                  <a:solidFill>
                    <a:srgbClr val="ffffff"/>
                  </a:solidFill>
                  <a:latin typeface="Poppins Light"/>
                  <a:ea typeface="Montserrat"/>
                </a:rPr>
                <a:t>01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22"/>
          <p:cNvSpPr/>
          <p:nvPr/>
        </p:nvSpPr>
        <p:spPr>
          <a:xfrm>
            <a:off x="4511520" y="3017880"/>
            <a:ext cx="34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 Light"/>
                <a:ea typeface="Montserrat"/>
              </a:rPr>
              <a:t>Create Id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4533840" y="5083200"/>
            <a:ext cx="4025880" cy="778680"/>
            <a:chOff x="4533840" y="5083200"/>
            <a:chExt cx="4025880" cy="778680"/>
          </a:xfrm>
        </p:grpSpPr>
        <p:sp>
          <p:nvSpPr>
            <p:cNvPr id="56" name="Rectangle 25"/>
            <p:cNvSpPr/>
            <p:nvPr/>
          </p:nvSpPr>
          <p:spPr>
            <a:xfrm>
              <a:off x="5415480" y="5083200"/>
              <a:ext cx="31442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Poppins Light"/>
                  <a:ea typeface="Poppins Light"/>
                </a:rPr>
                <a:t>Lorem ipsum dolor sit amet, consectetur adipiscing elit. Proin mollis neque sit amet volutpat dictum</a:t>
              </a:r>
              <a:r>
                <a:rPr b="0" lang="id-ID" sz="1000" spc="-1" strike="noStrike">
                  <a:solidFill>
                    <a:srgbClr val="ffffff"/>
                  </a:solidFill>
                  <a:latin typeface="Poppins Light"/>
                  <a:ea typeface="Poppins Light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26"/>
            <p:cNvSpPr/>
            <p:nvPr/>
          </p:nvSpPr>
          <p:spPr>
            <a:xfrm>
              <a:off x="4533840" y="5083200"/>
              <a:ext cx="1166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4400" spc="-1" strike="noStrike">
                  <a:solidFill>
                    <a:srgbClr val="ffffff"/>
                  </a:solidFill>
                  <a:latin typeface="Poppins Light"/>
                  <a:ea typeface="Montserrat"/>
                </a:rPr>
                <a:t>0</a:t>
              </a:r>
              <a:r>
                <a:rPr b="0" lang="en-US" sz="4400" spc="-1" strike="noStrike">
                  <a:solidFill>
                    <a:srgbClr val="ffffff"/>
                  </a:solidFill>
                  <a:latin typeface="Poppins Light"/>
                  <a:ea typeface="Montserrat"/>
                </a:rPr>
                <a:t>2</a:t>
              </a:r>
              <a:r>
                <a:rPr b="0" lang="id-ID" sz="4400" spc="-1" strike="noStrike">
                  <a:solidFill>
                    <a:srgbClr val="ffffff"/>
                  </a:solidFill>
                  <a:latin typeface="Poppins Light"/>
                  <a:ea typeface="Montserrat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3960" y="895320"/>
            <a:ext cx="3371760" cy="506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19760" y="514440"/>
            <a:ext cx="4019400" cy="25336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9"/>
          <p:cNvGrpSpPr/>
          <p:nvPr/>
        </p:nvGrpSpPr>
        <p:grpSpPr>
          <a:xfrm>
            <a:off x="4511520" y="1538280"/>
            <a:ext cx="4400640" cy="1454040"/>
            <a:chOff x="4511520" y="1538280"/>
            <a:chExt cx="4400640" cy="1454040"/>
          </a:xfrm>
        </p:grpSpPr>
        <p:sp>
          <p:nvSpPr>
            <p:cNvPr id="61" name="TextBox 20"/>
            <p:cNvSpPr/>
            <p:nvPr/>
          </p:nvSpPr>
          <p:spPr>
            <a:xfrm>
              <a:off x="4511520" y="1538280"/>
              <a:ext cx="4400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Gotham Ultra"/>
                  <a:ea typeface="Roboto"/>
                </a:rPr>
                <a:t>ABOUT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21"/>
            <p:cNvSpPr/>
            <p:nvPr/>
          </p:nvSpPr>
          <p:spPr>
            <a:xfrm>
              <a:off x="4511520" y="2167200"/>
              <a:ext cx="4400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Gotham Ultra"/>
                  <a:ea typeface="Roboto"/>
                </a:rPr>
                <a:t>PORTFO</a:t>
              </a:r>
              <a:r>
                <a:rPr b="0" lang="en-US" sz="4800" spc="-1" strike="noStrike">
                  <a:solidFill>
                    <a:srgbClr val="ef2f58"/>
                  </a:solidFill>
                  <a:latin typeface="Gotham Ultra"/>
                  <a:ea typeface="Roboto"/>
                </a:rPr>
                <a:t>LIO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2f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8"/>
          <p:cNvSpPr/>
          <p:nvPr/>
        </p:nvSpPr>
        <p:spPr>
          <a:xfrm rot="3085800">
            <a:off x="2596680" y="28800"/>
            <a:ext cx="1079280" cy="500364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5003640"/>
              <a:gd name="textAreaBottom" fmla="*/ 4845600 h 5003640"/>
            </a:gdLst>
            <a:ahLst/>
            <a:rect l="textAreaLeft" t="textAreaTop" r="textAreaRight" b="textAreaBottom"/>
            <a:pathLst>
              <a:path w="21600" h="100113">
                <a:moveTo>
                  <a:pt x="10800" y="0"/>
                </a:moveTo>
                <a:arcTo wR="10800" hR="10800" stAng="16200000" swAng="-5400000"/>
                <a:lnTo>
                  <a:pt x="0" y="89313"/>
                </a:lnTo>
                <a:arcTo wR="10800" hR="10800" stAng="10800000" swAng="-5400000"/>
                <a:lnTo>
                  <a:pt x="10800" y="10011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72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9"/>
          <p:cNvGrpSpPr/>
          <p:nvPr/>
        </p:nvGrpSpPr>
        <p:grpSpPr>
          <a:xfrm>
            <a:off x="6715080" y="1397160"/>
            <a:ext cx="4400640" cy="1890360"/>
            <a:chOff x="6715080" y="1397160"/>
            <a:chExt cx="4400640" cy="1890360"/>
          </a:xfrm>
        </p:grpSpPr>
        <p:sp>
          <p:nvSpPr>
            <p:cNvPr id="65" name="TextBox 10"/>
            <p:cNvSpPr/>
            <p:nvPr/>
          </p:nvSpPr>
          <p:spPr>
            <a:xfrm>
              <a:off x="6715080" y="1397160"/>
              <a:ext cx="440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Gotham Ultra"/>
                  <a:ea typeface="Roboto"/>
                </a:rPr>
                <a:t>HELLO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>
              <a:off x="6715080" y="2188080"/>
              <a:ext cx="440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Gotham Ultra"/>
                  <a:ea typeface="Roboto"/>
                </a:rPr>
                <a:t>FU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Rectangle 14"/>
          <p:cNvSpPr/>
          <p:nvPr/>
        </p:nvSpPr>
        <p:spPr>
          <a:xfrm>
            <a:off x="6715080" y="4371840"/>
            <a:ext cx="3971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oppins Light"/>
                <a:ea typeface="Source Sans Pro"/>
              </a:rPr>
              <a:t>Lorem ipsum dolor sit amet, consectetur adipiscing elit. Maecenas venenatis, enim viverra volutpat placerat, nibh ante rutrum e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6715080" y="3997440"/>
            <a:ext cx="34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Poppins Light"/>
                <a:ea typeface="Montserrat"/>
              </a:rPr>
              <a:t>Awesome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6737400" y="3251160"/>
            <a:ext cx="34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 Light"/>
                <a:ea typeface="Montserrat"/>
              </a:rPr>
              <a:t>The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Isosceles Triangle 15"/>
          <p:cNvSpPr/>
          <p:nvPr/>
        </p:nvSpPr>
        <p:spPr>
          <a:xfrm rot="19827000">
            <a:off x="10955160" y="877680"/>
            <a:ext cx="492480" cy="4251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459320" y="5872320"/>
            <a:ext cx="407880" cy="40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: Shape 48"/>
          <p:cNvSpPr/>
          <p:nvPr/>
        </p:nvSpPr>
        <p:spPr>
          <a:xfrm>
            <a:off x="10686960" y="4114800"/>
            <a:ext cx="4329360" cy="4329000"/>
          </a:xfrm>
          <a:custGeom>
            <a:avLst/>
            <a:gdLst/>
            <a:ahLst/>
            <a:rect l="l" t="t" r="r" b="b"/>
            <a:pathLst>
              <a:path w="5596274" h="5596274">
                <a:moveTo>
                  <a:pt x="2798136" y="917792"/>
                </a:moveTo>
                <a:cubicBezTo>
                  <a:pt x="1759651" y="917792"/>
                  <a:pt x="917792" y="1759651"/>
                  <a:pt x="917792" y="2798136"/>
                </a:cubicBezTo>
                <a:cubicBezTo>
                  <a:pt x="917792" y="3836621"/>
                  <a:pt x="1759651" y="4678480"/>
                  <a:pt x="2798136" y="4678480"/>
                </a:cubicBezTo>
                <a:cubicBezTo>
                  <a:pt x="3836621" y="4678480"/>
                  <a:pt x="4678480" y="3836621"/>
                  <a:pt x="4678480" y="2798136"/>
                </a:cubicBezTo>
                <a:cubicBezTo>
                  <a:pt x="4678480" y="1759651"/>
                  <a:pt x="3836621" y="917792"/>
                  <a:pt x="2798136" y="917792"/>
                </a:cubicBezTo>
                <a:close/>
                <a:moveTo>
                  <a:pt x="2798137" y="0"/>
                </a:moveTo>
                <a:cubicBezTo>
                  <a:pt x="4343505" y="0"/>
                  <a:pt x="5596274" y="1252769"/>
                  <a:pt x="5596274" y="2798137"/>
                </a:cubicBezTo>
                <a:cubicBezTo>
                  <a:pt x="5596274" y="4343505"/>
                  <a:pt x="4343505" y="5596274"/>
                  <a:pt x="2798137" y="5596274"/>
                </a:cubicBezTo>
                <a:cubicBezTo>
                  <a:pt x="1252769" y="5596274"/>
                  <a:pt x="0" y="4343505"/>
                  <a:pt x="0" y="2798137"/>
                </a:cubicBezTo>
                <a:cubicBezTo>
                  <a:pt x="0" y="1252769"/>
                  <a:pt x="1252769" y="0"/>
                  <a:pt x="2798137" y="0"/>
                </a:cubicBezTo>
                <a:close/>
              </a:path>
            </a:pathLst>
          </a:custGeom>
          <a:solidFill>
            <a:srgbClr val="f26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44560" y="549360"/>
            <a:ext cx="5710320" cy="630864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le 7"/>
          <p:cNvSpPr/>
          <p:nvPr/>
        </p:nvSpPr>
        <p:spPr>
          <a:xfrm rot="3085800">
            <a:off x="1830600" y="2566440"/>
            <a:ext cx="1013040" cy="3011400"/>
          </a:xfrm>
          <a:custGeom>
            <a:avLst/>
            <a:gdLst>
              <a:gd name="textAreaLeft" fmla="*/ 148320 w 1013040"/>
              <a:gd name="textAreaRight" fmla="*/ 864720 w 1013040"/>
              <a:gd name="textAreaTop" fmla="*/ 148320 h 3011400"/>
              <a:gd name="textAreaBottom" fmla="*/ 2863080 h 3011400"/>
            </a:gdLst>
            <a:ahLst/>
            <a:rect l="textAreaLeft" t="textAreaTop" r="textAreaRight" b="textAreaBottom"/>
            <a:pathLst>
              <a:path w="21600" h="64194">
                <a:moveTo>
                  <a:pt x="10800" y="0"/>
                </a:moveTo>
                <a:arcTo wR="10800" hR="10800" stAng="16200000" swAng="-5400000"/>
                <a:lnTo>
                  <a:pt x="0" y="53394"/>
                </a:lnTo>
                <a:arcTo wR="10800" hR="10800" stAng="10800000" swAng="-5400000"/>
                <a:lnTo>
                  <a:pt x="10800" y="6419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a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698400" y="1039680"/>
            <a:ext cx="247680" cy="2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onut 18"/>
          <p:cNvSpPr/>
          <p:nvPr/>
        </p:nvSpPr>
        <p:spPr>
          <a:xfrm>
            <a:off x="4330800" y="2556000"/>
            <a:ext cx="536400" cy="536400"/>
          </a:xfrm>
          <a:custGeom>
            <a:avLst/>
            <a:gdLst/>
            <a:ahLst/>
            <a:rect l="l" t="t" r="r" b="b"/>
            <a:pathLst>
              <a:path w="536618" h="536618">
                <a:moveTo>
                  <a:pt x="0" y="268309"/>
                </a:moveTo>
                <a:cubicBezTo>
                  <a:pt x="0" y="120126"/>
                  <a:pt x="120126" y="0"/>
                  <a:pt x="268309" y="0"/>
                </a:cubicBezTo>
                <a:cubicBezTo>
                  <a:pt x="416492" y="0"/>
                  <a:pt x="536618" y="120126"/>
                  <a:pt x="536618" y="268309"/>
                </a:cubicBezTo>
                <a:cubicBezTo>
                  <a:pt x="536618" y="416492"/>
                  <a:pt x="416492" y="536618"/>
                  <a:pt x="268309" y="536618"/>
                </a:cubicBezTo>
                <a:cubicBezTo>
                  <a:pt x="120126" y="536618"/>
                  <a:pt x="0" y="416492"/>
                  <a:pt x="0" y="268309"/>
                </a:cubicBezTo>
                <a:close/>
                <a:moveTo>
                  <a:pt x="85354" y="268309"/>
                </a:moveTo>
                <a:cubicBezTo>
                  <a:pt x="85354" y="369352"/>
                  <a:pt x="167266" y="451264"/>
                  <a:pt x="268309" y="451264"/>
                </a:cubicBezTo>
                <a:cubicBezTo>
                  <a:pt x="369352" y="451264"/>
                  <a:pt x="451264" y="369352"/>
                  <a:pt x="451264" y="268309"/>
                </a:cubicBezTo>
                <a:cubicBezTo>
                  <a:pt x="451264" y="167266"/>
                  <a:pt x="369352" y="85354"/>
                  <a:pt x="268309" y="85354"/>
                </a:cubicBezTo>
                <a:cubicBezTo>
                  <a:pt x="167266" y="85354"/>
                  <a:pt x="85354" y="167266"/>
                  <a:pt x="85354" y="268309"/>
                </a:cubicBezTo>
                <a:close/>
              </a:path>
            </a:pathLst>
          </a:custGeom>
          <a:solidFill>
            <a:srgbClr val="ffa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reeform: Shape 48"/>
          <p:cNvSpPr/>
          <p:nvPr/>
        </p:nvSpPr>
        <p:spPr>
          <a:xfrm>
            <a:off x="-1778040" y="-1533600"/>
            <a:ext cx="4330800" cy="4330800"/>
          </a:xfrm>
          <a:custGeom>
            <a:avLst/>
            <a:gdLst/>
            <a:ahLst/>
            <a:rect l="l" t="t" r="r" b="b"/>
            <a:pathLst>
              <a:path w="5596274" h="5596274">
                <a:moveTo>
                  <a:pt x="2798136" y="917792"/>
                </a:moveTo>
                <a:cubicBezTo>
                  <a:pt x="1759651" y="917792"/>
                  <a:pt x="917792" y="1759651"/>
                  <a:pt x="917792" y="2798136"/>
                </a:cubicBezTo>
                <a:cubicBezTo>
                  <a:pt x="917792" y="3836621"/>
                  <a:pt x="1759651" y="4678480"/>
                  <a:pt x="2798136" y="4678480"/>
                </a:cubicBezTo>
                <a:cubicBezTo>
                  <a:pt x="3836621" y="4678480"/>
                  <a:pt x="4678480" y="3836621"/>
                  <a:pt x="4678480" y="2798136"/>
                </a:cubicBezTo>
                <a:cubicBezTo>
                  <a:pt x="4678480" y="1759651"/>
                  <a:pt x="3836621" y="917792"/>
                  <a:pt x="2798136" y="917792"/>
                </a:cubicBezTo>
                <a:close/>
                <a:moveTo>
                  <a:pt x="2798137" y="0"/>
                </a:moveTo>
                <a:cubicBezTo>
                  <a:pt x="4343505" y="0"/>
                  <a:pt x="5596274" y="1252769"/>
                  <a:pt x="5596274" y="2798137"/>
                </a:cubicBezTo>
                <a:cubicBezTo>
                  <a:pt x="5596274" y="4343505"/>
                  <a:pt x="4343505" y="5596274"/>
                  <a:pt x="2798137" y="5596274"/>
                </a:cubicBezTo>
                <a:cubicBezTo>
                  <a:pt x="1252769" y="5596274"/>
                  <a:pt x="0" y="4343505"/>
                  <a:pt x="0" y="2798137"/>
                </a:cubicBezTo>
                <a:cubicBezTo>
                  <a:pt x="0" y="1252769"/>
                  <a:pt x="1252769" y="0"/>
                  <a:pt x="2798137" y="0"/>
                </a:cubicBezTo>
                <a:close/>
              </a:path>
            </a:pathLst>
          </a:custGeom>
          <a:solidFill>
            <a:srgbClr val="ef2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5"/>
          <p:cNvSpPr/>
          <p:nvPr/>
        </p:nvSpPr>
        <p:spPr>
          <a:xfrm flipH="1">
            <a:off x="5760" y="3755880"/>
            <a:ext cx="12185640" cy="3102120"/>
          </a:xfrm>
          <a:custGeom>
            <a:avLst/>
            <a:gdLst/>
            <a:ahLst/>
            <a:rect l="l" t="t" r="r" b="b"/>
            <a:pathLst>
              <a:path w="7972" h="2029">
                <a:moveTo>
                  <a:pt x="0" y="0"/>
                </a:moveTo>
                <a:lnTo>
                  <a:pt x="0" y="2029"/>
                </a:lnTo>
                <a:lnTo>
                  <a:pt x="7972" y="2029"/>
                </a:lnTo>
                <a:lnTo>
                  <a:pt x="7972" y="1640"/>
                </a:lnTo>
                <a:lnTo>
                  <a:pt x="0" y="0"/>
                </a:lnTo>
                <a:close/>
              </a:path>
            </a:pathLst>
          </a:custGeom>
          <a:solidFill>
            <a:srgbClr val="ef2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7035480" y="1222200"/>
            <a:ext cx="3475080" cy="4608720"/>
            <a:chOff x="7035480" y="1222200"/>
            <a:chExt cx="3475080" cy="4608720"/>
          </a:xfrm>
        </p:grpSpPr>
        <p:sp>
          <p:nvSpPr>
            <p:cNvPr id="80" name="Freeform 3"/>
            <p:cNvSpPr/>
            <p:nvPr/>
          </p:nvSpPr>
          <p:spPr>
            <a:xfrm flipH="1">
              <a:off x="7035120" y="1222200"/>
              <a:ext cx="3475080" cy="3614400"/>
            </a:xfrm>
            <a:custGeom>
              <a:avLst/>
              <a:gdLst/>
              <a:ahLst/>
              <a:rect l="l" t="t" r="r" b="b"/>
              <a:pathLst>
                <a:path w="3770142" h="3921802">
                  <a:moveTo>
                    <a:pt x="0" y="0"/>
                  </a:moveTo>
                  <a:lnTo>
                    <a:pt x="3770142" y="0"/>
                  </a:lnTo>
                  <a:lnTo>
                    <a:pt x="3770142" y="3921802"/>
                  </a:lnTo>
                  <a:lnTo>
                    <a:pt x="0" y="3146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b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 flipH="1">
              <a:off x="7035120" y="4115160"/>
              <a:ext cx="3475080" cy="1715760"/>
            </a:xfrm>
            <a:custGeom>
              <a:avLst/>
              <a:gdLst/>
              <a:ahLst/>
              <a:rect l="l" t="t" r="r" b="b"/>
              <a:pathLst>
                <a:path w="3770142" h="1861890">
                  <a:moveTo>
                    <a:pt x="0" y="0"/>
                  </a:moveTo>
                  <a:lnTo>
                    <a:pt x="3770142" y="775594"/>
                  </a:lnTo>
                  <a:lnTo>
                    <a:pt x="3770142" y="1861890"/>
                  </a:lnTo>
                  <a:lnTo>
                    <a:pt x="0" y="18618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5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Rectangle 10"/>
          <p:cNvSpPr/>
          <p:nvPr/>
        </p:nvSpPr>
        <p:spPr>
          <a:xfrm>
            <a:off x="957240" y="2174760"/>
            <a:ext cx="357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Ultra"/>
                <a:ea typeface="Source Sans Pro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otham Ultra"/>
                <a:ea typeface="Source Sans Pro"/>
              </a:rPr>
              <a:t>GRAPHIC DESIGN WILL SAVE THE WORLD RIGHT AFTER ROCK AND ROLL DOES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Isosceles Triangle 12"/>
          <p:cNvSpPr/>
          <p:nvPr/>
        </p:nvSpPr>
        <p:spPr>
          <a:xfrm rot="19827000">
            <a:off x="10920240" y="725040"/>
            <a:ext cx="493920" cy="4255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13"/>
          <p:cNvSpPr/>
          <p:nvPr/>
        </p:nvSpPr>
        <p:spPr>
          <a:xfrm>
            <a:off x="4708440" y="1508040"/>
            <a:ext cx="246240" cy="246240"/>
          </a:xfrm>
          <a:prstGeom prst="ellipse">
            <a:avLst/>
          </a:prstGeom>
          <a:solidFill>
            <a:srgbClr val="ef2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557280" y="5189400"/>
            <a:ext cx="307800" cy="306360"/>
          </a:xfrm>
          <a:prstGeom prst="rect">
            <a:avLst/>
          </a:prstGeom>
          <a:noFill/>
          <a:ln w="38160">
            <a:solidFill>
              <a:srgbClr val="724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Multiply 15"/>
          <p:cNvSpPr/>
          <p:nvPr/>
        </p:nvSpPr>
        <p:spPr>
          <a:xfrm rot="2208000">
            <a:off x="5629320" y="5506560"/>
            <a:ext cx="696960" cy="696960"/>
          </a:xfrm>
          <a:custGeom>
            <a:avLst/>
            <a:gdLst/>
            <a:ahLst/>
            <a:rect l="l" t="t" r="r" b="b"/>
            <a:pathLst>
              <a:path w="696686" h="696686">
                <a:moveTo>
                  <a:pt x="135052" y="199601"/>
                </a:moveTo>
                <a:lnTo>
                  <a:pt x="199601" y="135052"/>
                </a:lnTo>
                <a:lnTo>
                  <a:pt x="348343" y="283794"/>
                </a:lnTo>
                <a:lnTo>
                  <a:pt x="497085" y="135052"/>
                </a:lnTo>
                <a:lnTo>
                  <a:pt x="561634" y="199601"/>
                </a:lnTo>
                <a:lnTo>
                  <a:pt x="412892" y="348343"/>
                </a:lnTo>
                <a:lnTo>
                  <a:pt x="561634" y="497085"/>
                </a:lnTo>
                <a:lnTo>
                  <a:pt x="497085" y="561634"/>
                </a:lnTo>
                <a:lnTo>
                  <a:pt x="348343" y="412892"/>
                </a:lnTo>
                <a:lnTo>
                  <a:pt x="199601" y="561634"/>
                </a:lnTo>
                <a:lnTo>
                  <a:pt x="135052" y="497085"/>
                </a:lnTo>
                <a:lnTo>
                  <a:pt x="283794" y="348343"/>
                </a:lnTo>
                <a:lnTo>
                  <a:pt x="135052" y="1996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247760" y="4378320"/>
            <a:ext cx="2295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oppins Light"/>
                <a:ea typeface="Source Sans Pro"/>
              </a:rPr>
              <a:t>Lorem ipsum dolor sit amet, consectetur adipiscing eli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2f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863720" y="1844640"/>
            <a:ext cx="4784760" cy="440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: Shape 48"/>
          <p:cNvSpPr/>
          <p:nvPr/>
        </p:nvSpPr>
        <p:spPr>
          <a:xfrm>
            <a:off x="9040680" y="4950000"/>
            <a:ext cx="4329360" cy="4330440"/>
          </a:xfrm>
          <a:custGeom>
            <a:avLst/>
            <a:gdLst/>
            <a:ahLst/>
            <a:rect l="l" t="t" r="r" b="b"/>
            <a:pathLst>
              <a:path w="5596274" h="5596274">
                <a:moveTo>
                  <a:pt x="2798136" y="917792"/>
                </a:moveTo>
                <a:cubicBezTo>
                  <a:pt x="1759651" y="917792"/>
                  <a:pt x="917792" y="1759651"/>
                  <a:pt x="917792" y="2798136"/>
                </a:cubicBezTo>
                <a:cubicBezTo>
                  <a:pt x="917792" y="3836621"/>
                  <a:pt x="1759651" y="4678480"/>
                  <a:pt x="2798136" y="4678480"/>
                </a:cubicBezTo>
                <a:cubicBezTo>
                  <a:pt x="3836621" y="4678480"/>
                  <a:pt x="4678480" y="3836621"/>
                  <a:pt x="4678480" y="2798136"/>
                </a:cubicBezTo>
                <a:cubicBezTo>
                  <a:pt x="4678480" y="1759651"/>
                  <a:pt x="3836621" y="917792"/>
                  <a:pt x="2798136" y="917792"/>
                </a:cubicBezTo>
                <a:close/>
                <a:moveTo>
                  <a:pt x="2798137" y="0"/>
                </a:moveTo>
                <a:cubicBezTo>
                  <a:pt x="4343505" y="0"/>
                  <a:pt x="5596274" y="1252769"/>
                  <a:pt x="5596274" y="2798137"/>
                </a:cubicBezTo>
                <a:cubicBezTo>
                  <a:pt x="5596274" y="4343505"/>
                  <a:pt x="4343505" y="5596274"/>
                  <a:pt x="2798137" y="5596274"/>
                </a:cubicBezTo>
                <a:cubicBezTo>
                  <a:pt x="1252769" y="5596274"/>
                  <a:pt x="0" y="4343505"/>
                  <a:pt x="0" y="2798137"/>
                </a:cubicBezTo>
                <a:cubicBezTo>
                  <a:pt x="0" y="1252769"/>
                  <a:pt x="1252769" y="0"/>
                  <a:pt x="2798137" y="0"/>
                </a:cubicBezTo>
                <a:close/>
              </a:path>
            </a:pathLst>
          </a:custGeom>
          <a:solidFill>
            <a:srgbClr val="55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3"/>
          <p:cNvSpPr/>
          <p:nvPr/>
        </p:nvSpPr>
        <p:spPr>
          <a:xfrm>
            <a:off x="7221600" y="4468680"/>
            <a:ext cx="357120" cy="355680"/>
          </a:xfrm>
          <a:custGeom>
            <a:avLst/>
            <a:gdLst/>
            <a:ahLst/>
            <a:rect l="l" t="t" r="r" b="b"/>
            <a:pathLst>
              <a:path w="124" h="124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0" y="96"/>
                  <a:pt x="28" y="124"/>
                  <a:pt x="62" y="124"/>
                </a:cubicBezTo>
                <a:cubicBezTo>
                  <a:pt x="96" y="124"/>
                  <a:pt x="124" y="96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  <a:moveTo>
                  <a:pt x="116" y="60"/>
                </a:moveTo>
                <a:cubicBezTo>
                  <a:pt x="92" y="60"/>
                  <a:pt x="92" y="60"/>
                  <a:pt x="92" y="60"/>
                </a:cubicBezTo>
                <a:cubicBezTo>
                  <a:pt x="92" y="51"/>
                  <a:pt x="90" y="43"/>
                  <a:pt x="87" y="35"/>
                </a:cubicBezTo>
                <a:cubicBezTo>
                  <a:pt x="93" y="33"/>
                  <a:pt x="98" y="30"/>
                  <a:pt x="102" y="26"/>
                </a:cubicBezTo>
                <a:cubicBezTo>
                  <a:pt x="110" y="35"/>
                  <a:pt x="115" y="47"/>
                  <a:pt x="116" y="60"/>
                </a:cubicBezTo>
                <a:close/>
                <a:moveTo>
                  <a:pt x="60" y="116"/>
                </a:moveTo>
                <a:cubicBezTo>
                  <a:pt x="53" y="110"/>
                  <a:pt x="48" y="103"/>
                  <a:pt x="43" y="95"/>
                </a:cubicBezTo>
                <a:cubicBezTo>
                  <a:pt x="49" y="93"/>
                  <a:pt x="54" y="92"/>
                  <a:pt x="60" y="92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60" y="116"/>
                  <a:pt x="60" y="116"/>
                  <a:pt x="60" y="116"/>
                </a:cubicBezTo>
                <a:close/>
                <a:moveTo>
                  <a:pt x="64" y="8"/>
                </a:moveTo>
                <a:cubicBezTo>
                  <a:pt x="72" y="14"/>
                  <a:pt x="78" y="23"/>
                  <a:pt x="82" y="33"/>
                </a:cubicBezTo>
                <a:cubicBezTo>
                  <a:pt x="76" y="35"/>
                  <a:pt x="70" y="36"/>
                  <a:pt x="64" y="36"/>
                </a:cubicBezTo>
                <a:cubicBezTo>
                  <a:pt x="64" y="8"/>
                  <a:pt x="64" y="8"/>
                  <a:pt x="64" y="8"/>
                </a:cubicBezTo>
                <a:cubicBezTo>
                  <a:pt x="64" y="8"/>
                  <a:pt x="64" y="8"/>
                  <a:pt x="64" y="8"/>
                </a:cubicBezTo>
                <a:close/>
                <a:moveTo>
                  <a:pt x="71" y="9"/>
                </a:moveTo>
                <a:cubicBezTo>
                  <a:pt x="82" y="11"/>
                  <a:pt x="92" y="16"/>
                  <a:pt x="100" y="23"/>
                </a:cubicBezTo>
                <a:cubicBezTo>
                  <a:pt x="95" y="26"/>
                  <a:pt x="91" y="29"/>
                  <a:pt x="86" y="31"/>
                </a:cubicBezTo>
                <a:cubicBezTo>
                  <a:pt x="82" y="23"/>
                  <a:pt x="77" y="15"/>
                  <a:pt x="71" y="9"/>
                </a:cubicBezTo>
                <a:close/>
                <a:moveTo>
                  <a:pt x="60" y="8"/>
                </a:moveTo>
                <a:cubicBezTo>
                  <a:pt x="60" y="36"/>
                  <a:pt x="60" y="36"/>
                  <a:pt x="60" y="36"/>
                </a:cubicBezTo>
                <a:cubicBezTo>
                  <a:pt x="54" y="36"/>
                  <a:pt x="48" y="35"/>
                  <a:pt x="42" y="33"/>
                </a:cubicBezTo>
                <a:cubicBezTo>
                  <a:pt x="46" y="23"/>
                  <a:pt x="52" y="14"/>
                  <a:pt x="60" y="8"/>
                </a:cubicBezTo>
                <a:cubicBezTo>
                  <a:pt x="60" y="8"/>
                  <a:pt x="60" y="8"/>
                  <a:pt x="60" y="8"/>
                </a:cubicBezTo>
                <a:close/>
                <a:moveTo>
                  <a:pt x="38" y="31"/>
                </a:moveTo>
                <a:cubicBezTo>
                  <a:pt x="33" y="29"/>
                  <a:pt x="29" y="26"/>
                  <a:pt x="24" y="23"/>
                </a:cubicBezTo>
                <a:cubicBezTo>
                  <a:pt x="32" y="16"/>
                  <a:pt x="42" y="11"/>
                  <a:pt x="53" y="9"/>
                </a:cubicBezTo>
                <a:cubicBezTo>
                  <a:pt x="47" y="15"/>
                  <a:pt x="42" y="23"/>
                  <a:pt x="38" y="31"/>
                </a:cubicBezTo>
                <a:close/>
                <a:moveTo>
                  <a:pt x="40" y="36"/>
                </a:moveTo>
                <a:cubicBezTo>
                  <a:pt x="47" y="38"/>
                  <a:pt x="53" y="40"/>
                  <a:pt x="60" y="40"/>
                </a:cubicBezTo>
                <a:cubicBezTo>
                  <a:pt x="60" y="60"/>
                  <a:pt x="60" y="60"/>
                  <a:pt x="60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2"/>
                  <a:pt x="38" y="44"/>
                  <a:pt x="40" y="36"/>
                </a:cubicBezTo>
                <a:close/>
                <a:moveTo>
                  <a:pt x="60" y="64"/>
                </a:moveTo>
                <a:cubicBezTo>
                  <a:pt x="60" y="88"/>
                  <a:pt x="60" y="88"/>
                  <a:pt x="60" y="88"/>
                </a:cubicBezTo>
                <a:cubicBezTo>
                  <a:pt x="54" y="88"/>
                  <a:pt x="48" y="89"/>
                  <a:pt x="42" y="91"/>
                </a:cubicBezTo>
                <a:cubicBezTo>
                  <a:pt x="38" y="83"/>
                  <a:pt x="36" y="74"/>
                  <a:pt x="36" y="64"/>
                </a:cubicBezTo>
                <a:lnTo>
                  <a:pt x="60" y="64"/>
                </a:lnTo>
                <a:close/>
                <a:moveTo>
                  <a:pt x="53" y="115"/>
                </a:moveTo>
                <a:cubicBezTo>
                  <a:pt x="43" y="114"/>
                  <a:pt x="34" y="109"/>
                  <a:pt x="27" y="103"/>
                </a:cubicBezTo>
                <a:cubicBezTo>
                  <a:pt x="31" y="100"/>
                  <a:pt x="35" y="98"/>
                  <a:pt x="40" y="96"/>
                </a:cubicBezTo>
                <a:cubicBezTo>
                  <a:pt x="43" y="103"/>
                  <a:pt x="48" y="110"/>
                  <a:pt x="53" y="115"/>
                </a:cubicBezTo>
                <a:close/>
                <a:moveTo>
                  <a:pt x="64" y="116"/>
                </a:moveTo>
                <a:cubicBezTo>
                  <a:pt x="64" y="92"/>
                  <a:pt x="64" y="92"/>
                  <a:pt x="64" y="92"/>
                </a:cubicBezTo>
                <a:cubicBezTo>
                  <a:pt x="70" y="92"/>
                  <a:pt x="75" y="93"/>
                  <a:pt x="81" y="95"/>
                </a:cubicBezTo>
                <a:cubicBezTo>
                  <a:pt x="76" y="103"/>
                  <a:pt x="71" y="110"/>
                  <a:pt x="64" y="116"/>
                </a:cubicBezTo>
                <a:cubicBezTo>
                  <a:pt x="64" y="116"/>
                  <a:pt x="64" y="116"/>
                  <a:pt x="64" y="116"/>
                </a:cubicBezTo>
                <a:close/>
                <a:moveTo>
                  <a:pt x="84" y="96"/>
                </a:moveTo>
                <a:cubicBezTo>
                  <a:pt x="89" y="98"/>
                  <a:pt x="93" y="100"/>
                  <a:pt x="97" y="103"/>
                </a:cubicBezTo>
                <a:cubicBezTo>
                  <a:pt x="90" y="109"/>
                  <a:pt x="81" y="114"/>
                  <a:pt x="71" y="115"/>
                </a:cubicBezTo>
                <a:cubicBezTo>
                  <a:pt x="76" y="110"/>
                  <a:pt x="81" y="103"/>
                  <a:pt x="84" y="96"/>
                </a:cubicBezTo>
                <a:close/>
                <a:moveTo>
                  <a:pt x="82" y="91"/>
                </a:moveTo>
                <a:cubicBezTo>
                  <a:pt x="76" y="89"/>
                  <a:pt x="70" y="88"/>
                  <a:pt x="64" y="88"/>
                </a:cubicBezTo>
                <a:cubicBezTo>
                  <a:pt x="64" y="64"/>
                  <a:pt x="64" y="64"/>
                  <a:pt x="64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74"/>
                  <a:pt x="86" y="83"/>
                  <a:pt x="82" y="91"/>
                </a:cubicBezTo>
                <a:close/>
                <a:moveTo>
                  <a:pt x="64" y="60"/>
                </a:moveTo>
                <a:cubicBezTo>
                  <a:pt x="64" y="40"/>
                  <a:pt x="64" y="40"/>
                  <a:pt x="64" y="40"/>
                </a:cubicBezTo>
                <a:cubicBezTo>
                  <a:pt x="71" y="40"/>
                  <a:pt x="77" y="38"/>
                  <a:pt x="84" y="36"/>
                </a:cubicBezTo>
                <a:cubicBezTo>
                  <a:pt x="86" y="44"/>
                  <a:pt x="88" y="52"/>
                  <a:pt x="88" y="60"/>
                </a:cubicBezTo>
                <a:lnTo>
                  <a:pt x="64" y="60"/>
                </a:lnTo>
                <a:close/>
                <a:moveTo>
                  <a:pt x="22" y="26"/>
                </a:moveTo>
                <a:cubicBezTo>
                  <a:pt x="26" y="30"/>
                  <a:pt x="31" y="33"/>
                  <a:pt x="37" y="35"/>
                </a:cubicBezTo>
                <a:cubicBezTo>
                  <a:pt x="34" y="43"/>
                  <a:pt x="32" y="51"/>
                  <a:pt x="32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47"/>
                  <a:pt x="14" y="35"/>
                  <a:pt x="22" y="26"/>
                </a:cubicBezTo>
                <a:close/>
                <a:moveTo>
                  <a:pt x="8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4"/>
                  <a:pt x="34" y="84"/>
                  <a:pt x="38" y="93"/>
                </a:cubicBezTo>
                <a:cubicBezTo>
                  <a:pt x="33" y="95"/>
                  <a:pt x="28" y="97"/>
                  <a:pt x="24" y="100"/>
                </a:cubicBezTo>
                <a:cubicBezTo>
                  <a:pt x="15" y="91"/>
                  <a:pt x="9" y="78"/>
                  <a:pt x="8" y="64"/>
                </a:cubicBezTo>
                <a:close/>
                <a:moveTo>
                  <a:pt x="100" y="100"/>
                </a:moveTo>
                <a:cubicBezTo>
                  <a:pt x="96" y="97"/>
                  <a:pt x="91" y="95"/>
                  <a:pt x="86" y="93"/>
                </a:cubicBezTo>
                <a:cubicBezTo>
                  <a:pt x="90" y="84"/>
                  <a:pt x="92" y="74"/>
                  <a:pt x="92" y="64"/>
                </a:cubicBezTo>
                <a:cubicBezTo>
                  <a:pt x="116" y="64"/>
                  <a:pt x="116" y="64"/>
                  <a:pt x="116" y="64"/>
                </a:cubicBezTo>
                <a:cubicBezTo>
                  <a:pt x="115" y="78"/>
                  <a:pt x="109" y="91"/>
                  <a:pt x="100" y="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Group 14" descr=""/>
          <p:cNvPicPr/>
          <p:nvPr/>
        </p:nvPicPr>
        <p:blipFill>
          <a:blip r:embed="rId1"/>
          <a:stretch/>
        </p:blipFill>
        <p:spPr>
          <a:xfrm>
            <a:off x="7223040" y="3322800"/>
            <a:ext cx="378000" cy="384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4"/>
          <p:cNvSpPr/>
          <p:nvPr/>
        </p:nvSpPr>
        <p:spPr>
          <a:xfrm>
            <a:off x="7734240" y="3197160"/>
            <a:ext cx="2613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oppins Light"/>
                <a:ea typeface="Source Sans Pro"/>
              </a:rPr>
              <a:t>Lorem ipsum dolor sit amet, consectetur adipiscing elit. Maecenas venenatis, enim viverra volutpat placerat, nibh ante rutrum e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7734240" y="4378320"/>
            <a:ext cx="2613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oppins Light"/>
                <a:ea typeface="Source Sans Pro"/>
              </a:rPr>
              <a:t>Lorem ipsum dolor sit amet, consectetur adipiscing elit. Maecenas venenatis, enim viverra volutpat placerat, nibh ante rutrum e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38400" y="1285920"/>
            <a:ext cx="4667040" cy="4286160"/>
          </a:xfrm>
          <a:prstGeom prst="rect">
            <a:avLst/>
          </a:prstGeom>
          <a:ln w="0">
            <a:noFill/>
          </a:ln>
        </p:spPr>
      </p:pic>
      <p:sp>
        <p:nvSpPr>
          <p:cNvPr id="96" name="Oval 3"/>
          <p:cNvSpPr/>
          <p:nvPr/>
        </p:nvSpPr>
        <p:spPr>
          <a:xfrm>
            <a:off x="787320" y="1825560"/>
            <a:ext cx="763560" cy="763560"/>
          </a:xfrm>
          <a:prstGeom prst="ellipse">
            <a:avLst/>
          </a:prstGeom>
          <a:solidFill>
            <a:srgbClr val="ffab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255920" y="1001880"/>
            <a:ext cx="4232520" cy="95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532400" y="1252440"/>
            <a:ext cx="4232160" cy="95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808520" y="1562040"/>
            <a:ext cx="4232160" cy="95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5157720" y="1847880"/>
            <a:ext cx="4232520" cy="95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057640" y="2065320"/>
            <a:ext cx="43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tham Ultra"/>
                <a:ea typeface="Montserrat"/>
              </a:rPr>
              <a:t>THE CREATIVE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796000" y="5105520"/>
            <a:ext cx="1706400" cy="175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686720" y="0"/>
            <a:ext cx="1706400" cy="225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728640" y="966960"/>
            <a:ext cx="4400640" cy="1890360"/>
            <a:chOff x="728640" y="966960"/>
            <a:chExt cx="4400640" cy="1890360"/>
          </a:xfrm>
        </p:grpSpPr>
        <p:sp>
          <p:nvSpPr>
            <p:cNvPr id="105" name="TextBox 8"/>
            <p:cNvSpPr/>
            <p:nvPr/>
          </p:nvSpPr>
          <p:spPr>
            <a:xfrm>
              <a:off x="728640" y="966960"/>
              <a:ext cx="440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724099"/>
                  </a:solidFill>
                  <a:latin typeface="Gotham Ultra"/>
                  <a:ea typeface="Roboto"/>
                </a:rPr>
                <a:t>F</a:t>
              </a:r>
              <a:r>
                <a:rPr b="0" lang="en-US" sz="6600" spc="-1" strike="noStrike">
                  <a:solidFill>
                    <a:srgbClr val="ffab19"/>
                  </a:solidFill>
                  <a:latin typeface="Gotham Ultra"/>
                  <a:ea typeface="Roboto"/>
                </a:rPr>
                <a:t>U</a:t>
              </a:r>
              <a:r>
                <a:rPr b="0" lang="en-US" sz="6600" spc="-1" strike="noStrike">
                  <a:solidFill>
                    <a:srgbClr val="ef2f58"/>
                  </a:solidFill>
                  <a:latin typeface="Gotham Ultra"/>
                  <a:ea typeface="Roboto"/>
                </a:rPr>
                <a:t>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9"/>
            <p:cNvSpPr/>
            <p:nvPr/>
          </p:nvSpPr>
          <p:spPr>
            <a:xfrm>
              <a:off x="728640" y="1757880"/>
              <a:ext cx="440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ab19"/>
                  </a:solidFill>
                  <a:latin typeface="Gotham Ultra"/>
                  <a:ea typeface="Roboto"/>
                </a:rPr>
                <a:t>C</a:t>
              </a:r>
              <a:r>
                <a:rPr b="0" lang="en-US" sz="6600" spc="-1" strike="noStrike">
                  <a:solidFill>
                    <a:srgbClr val="1457a5"/>
                  </a:solidFill>
                  <a:latin typeface="Gotham Ultra"/>
                  <a:ea typeface="Roboto"/>
                </a:rPr>
                <a:t>O</a:t>
              </a:r>
              <a:r>
                <a:rPr b="0" lang="en-US" sz="6600" spc="-1" strike="noStrike">
                  <a:solidFill>
                    <a:srgbClr val="724099"/>
                  </a:solidFill>
                  <a:latin typeface="Gotham Ultra"/>
                  <a:ea typeface="Roboto"/>
                </a:rPr>
                <a:t>L</a:t>
              </a:r>
              <a:r>
                <a:rPr b="0" lang="en-US" sz="6600" spc="-1" strike="noStrike">
                  <a:solidFill>
                    <a:srgbClr val="ffffff"/>
                  </a:solidFill>
                  <a:latin typeface="Gotham Ultra"/>
                  <a:ea typeface="Roboto"/>
                </a:rPr>
                <a:t>O</a:t>
              </a:r>
              <a:r>
                <a:rPr b="0" lang="en-US" sz="6600" spc="-1" strike="noStrike">
                  <a:solidFill>
                    <a:srgbClr val="f26297"/>
                  </a:solidFill>
                  <a:latin typeface="Gotham Ultra"/>
                  <a:ea typeface="Roboto"/>
                </a:rPr>
                <a:t>U</a:t>
              </a:r>
              <a:r>
                <a:rPr b="0" lang="en-US" sz="6600" spc="-1" strike="noStrike">
                  <a:solidFill>
                    <a:srgbClr val="ffab19"/>
                  </a:solidFill>
                  <a:latin typeface="Gotham Ultra"/>
                  <a:ea typeface="Roboto"/>
                </a:rPr>
                <a:t>R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Isosceles Triangle 10"/>
          <p:cNvSpPr/>
          <p:nvPr/>
        </p:nvSpPr>
        <p:spPr>
          <a:xfrm rot="19827000">
            <a:off x="10863360" y="5411880"/>
            <a:ext cx="493560" cy="4255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55b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750960" y="2820960"/>
            <a:ext cx="34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 Light"/>
                <a:ea typeface="Montserrat"/>
              </a:rPr>
              <a:t>The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Multiply 13"/>
          <p:cNvSpPr/>
          <p:nvPr/>
        </p:nvSpPr>
        <p:spPr>
          <a:xfrm rot="2208000">
            <a:off x="4657320" y="738360"/>
            <a:ext cx="696960" cy="696600"/>
          </a:xfrm>
          <a:custGeom>
            <a:avLst/>
            <a:gdLst/>
            <a:ahLst/>
            <a:rect l="l" t="t" r="r" b="b"/>
            <a:pathLst>
              <a:path w="696686" h="696686">
                <a:moveTo>
                  <a:pt x="135052" y="199601"/>
                </a:moveTo>
                <a:lnTo>
                  <a:pt x="199601" y="135052"/>
                </a:lnTo>
                <a:lnTo>
                  <a:pt x="348343" y="283794"/>
                </a:lnTo>
                <a:lnTo>
                  <a:pt x="497085" y="135052"/>
                </a:lnTo>
                <a:lnTo>
                  <a:pt x="561634" y="199601"/>
                </a:lnTo>
                <a:lnTo>
                  <a:pt x="412892" y="348343"/>
                </a:lnTo>
                <a:lnTo>
                  <a:pt x="561634" y="497085"/>
                </a:lnTo>
                <a:lnTo>
                  <a:pt x="497085" y="561634"/>
                </a:lnTo>
                <a:lnTo>
                  <a:pt x="348343" y="412892"/>
                </a:lnTo>
                <a:lnTo>
                  <a:pt x="199601" y="561634"/>
                </a:lnTo>
                <a:lnTo>
                  <a:pt x="135052" y="497085"/>
                </a:lnTo>
                <a:lnTo>
                  <a:pt x="283794" y="348343"/>
                </a:lnTo>
                <a:lnTo>
                  <a:pt x="135052" y="199601"/>
                </a:lnTo>
                <a:close/>
              </a:path>
            </a:pathLst>
          </a:custGeom>
          <a:solidFill>
            <a:srgbClr val="ef2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14"/>
          <p:cNvGrpSpPr/>
          <p:nvPr/>
        </p:nvGrpSpPr>
        <p:grpSpPr>
          <a:xfrm>
            <a:off x="750960" y="3701880"/>
            <a:ext cx="4027320" cy="778680"/>
            <a:chOff x="750960" y="3701880"/>
            <a:chExt cx="4027320" cy="778680"/>
          </a:xfrm>
        </p:grpSpPr>
        <p:sp>
          <p:nvSpPr>
            <p:cNvPr id="111" name="Rectangle 15"/>
            <p:cNvSpPr/>
            <p:nvPr/>
          </p:nvSpPr>
          <p:spPr>
            <a:xfrm>
              <a:off x="1632960" y="3701880"/>
              <a:ext cx="314532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Poppins Light"/>
                  <a:ea typeface="Poppins Light"/>
                </a:rPr>
                <a:t>Lorem ipsum dolor sit amet, consectetur adipiscing elit. Proin mollis neque sit amet volutpat dictum</a:t>
              </a:r>
              <a:r>
                <a:rPr b="0" lang="id-ID" sz="1000" spc="-1" strike="noStrike">
                  <a:solidFill>
                    <a:srgbClr val="ffffff"/>
                  </a:solidFill>
                  <a:latin typeface="Poppins Light"/>
                  <a:ea typeface="Poppins Light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750960" y="3701880"/>
              <a:ext cx="116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4400" spc="-1" strike="noStrike">
                  <a:solidFill>
                    <a:srgbClr val="ffffff"/>
                  </a:solidFill>
                  <a:latin typeface="Poppins Light"/>
                  <a:ea typeface="Montserrat"/>
                </a:rPr>
                <a:t>01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7"/>
          <p:cNvGrpSpPr/>
          <p:nvPr/>
        </p:nvGrpSpPr>
        <p:grpSpPr>
          <a:xfrm>
            <a:off x="750960" y="4861080"/>
            <a:ext cx="4027320" cy="778680"/>
            <a:chOff x="750960" y="4861080"/>
            <a:chExt cx="4027320" cy="778680"/>
          </a:xfrm>
        </p:grpSpPr>
        <p:sp>
          <p:nvSpPr>
            <p:cNvPr id="114" name="Rectangle 18"/>
            <p:cNvSpPr/>
            <p:nvPr/>
          </p:nvSpPr>
          <p:spPr>
            <a:xfrm>
              <a:off x="1632960" y="4861080"/>
              <a:ext cx="314532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Poppins Light"/>
                  <a:ea typeface="Poppins Light"/>
                </a:rPr>
                <a:t>Lorem ipsum dolor sit amet, consectetur adipiscing elit. Proin mollis neque sit amet volutpat dictum</a:t>
              </a:r>
              <a:r>
                <a:rPr b="0" lang="id-ID" sz="1000" spc="-1" strike="noStrike">
                  <a:solidFill>
                    <a:srgbClr val="ffffff"/>
                  </a:solidFill>
                  <a:latin typeface="Poppins Light"/>
                  <a:ea typeface="Poppins Light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9"/>
            <p:cNvSpPr/>
            <p:nvPr/>
          </p:nvSpPr>
          <p:spPr>
            <a:xfrm>
              <a:off x="750960" y="4861080"/>
              <a:ext cx="116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4400" spc="-1" strike="noStrike">
                  <a:solidFill>
                    <a:srgbClr val="ffffff"/>
                  </a:solidFill>
                  <a:latin typeface="Poppins Light"/>
                  <a:ea typeface="Montserrat"/>
                </a:rPr>
                <a:t>0</a:t>
              </a:r>
              <a:r>
                <a:rPr b="0" lang="en-US" sz="4400" spc="-1" strike="noStrike">
                  <a:solidFill>
                    <a:srgbClr val="ffffff"/>
                  </a:solidFill>
                  <a:latin typeface="Poppins Light"/>
                  <a:ea typeface="Montserrat"/>
                </a:rPr>
                <a:t>2</a:t>
              </a:r>
              <a:r>
                <a:rPr b="0" lang="id-ID" sz="4400" spc="-1" strike="noStrike">
                  <a:solidFill>
                    <a:srgbClr val="ffffff"/>
                  </a:solidFill>
                  <a:latin typeface="Poppins Light"/>
                  <a:ea typeface="Montserrat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reeform 5"/>
          <p:cNvSpPr/>
          <p:nvPr/>
        </p:nvSpPr>
        <p:spPr>
          <a:xfrm>
            <a:off x="1461960" y="1851120"/>
            <a:ext cx="2878200" cy="2508120"/>
          </a:xfrm>
          <a:custGeom>
            <a:avLst/>
            <a:gdLst/>
            <a:ahLst/>
            <a:rect l="l" t="t" r="r" b="b"/>
            <a:pathLst>
              <a:path w="766" h="667">
                <a:moveTo>
                  <a:pt x="766" y="497"/>
                </a:moveTo>
                <a:cubicBezTo>
                  <a:pt x="661" y="602"/>
                  <a:pt x="661" y="602"/>
                  <a:pt x="661" y="602"/>
                </a:cubicBezTo>
                <a:cubicBezTo>
                  <a:pt x="596" y="667"/>
                  <a:pt x="492" y="667"/>
                  <a:pt x="427" y="602"/>
                </a:cubicBezTo>
                <a:cubicBezTo>
                  <a:pt x="0" y="175"/>
                  <a:pt x="0" y="175"/>
                  <a:pt x="0" y="175"/>
                </a:cubicBezTo>
                <a:cubicBezTo>
                  <a:pt x="119" y="57"/>
                  <a:pt x="119" y="57"/>
                  <a:pt x="119" y="57"/>
                </a:cubicBezTo>
                <a:cubicBezTo>
                  <a:pt x="176" y="0"/>
                  <a:pt x="269" y="0"/>
                  <a:pt x="326" y="57"/>
                </a:cubicBezTo>
                <a:lnTo>
                  <a:pt x="766" y="497"/>
                </a:lnTo>
                <a:close/>
              </a:path>
            </a:pathLst>
          </a:custGeom>
          <a:solidFill>
            <a:srgbClr val="72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8666280" y="1390680"/>
            <a:ext cx="3525840" cy="4572000"/>
          </a:xfrm>
          <a:custGeom>
            <a:avLst/>
            <a:gdLst/>
            <a:ahLst/>
            <a:rect l="l" t="t" r="r" b="b"/>
            <a:pathLst>
              <a:path w="939" h="1216">
                <a:moveTo>
                  <a:pt x="939" y="0"/>
                </a:moveTo>
                <a:cubicBezTo>
                  <a:pt x="939" y="684"/>
                  <a:pt x="939" y="684"/>
                  <a:pt x="939" y="684"/>
                </a:cubicBezTo>
                <a:cubicBezTo>
                  <a:pt x="493" y="1138"/>
                  <a:pt x="493" y="1138"/>
                  <a:pt x="493" y="1138"/>
                </a:cubicBezTo>
                <a:cubicBezTo>
                  <a:pt x="415" y="1216"/>
                  <a:pt x="287" y="1216"/>
                  <a:pt x="209" y="1138"/>
                </a:cubicBezTo>
                <a:cubicBezTo>
                  <a:pt x="0" y="929"/>
                  <a:pt x="0" y="929"/>
                  <a:pt x="0" y="929"/>
                </a:cubicBezTo>
                <a:lnTo>
                  <a:pt x="939" y="0"/>
                </a:lnTo>
                <a:close/>
              </a:path>
            </a:pathLst>
          </a:custGeom>
          <a:solidFill>
            <a:srgbClr val="72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: Shape 48"/>
          <p:cNvSpPr/>
          <p:nvPr/>
        </p:nvSpPr>
        <p:spPr>
          <a:xfrm>
            <a:off x="-1725480" y="4846680"/>
            <a:ext cx="4329000" cy="4329000"/>
          </a:xfrm>
          <a:custGeom>
            <a:avLst/>
            <a:gdLst/>
            <a:ahLst/>
            <a:rect l="l" t="t" r="r" b="b"/>
            <a:pathLst>
              <a:path w="5596274" h="5596274">
                <a:moveTo>
                  <a:pt x="2798136" y="917792"/>
                </a:moveTo>
                <a:cubicBezTo>
                  <a:pt x="1759651" y="917792"/>
                  <a:pt x="917792" y="1759651"/>
                  <a:pt x="917792" y="2798136"/>
                </a:cubicBezTo>
                <a:cubicBezTo>
                  <a:pt x="917792" y="3836621"/>
                  <a:pt x="1759651" y="4678480"/>
                  <a:pt x="2798136" y="4678480"/>
                </a:cubicBezTo>
                <a:cubicBezTo>
                  <a:pt x="3836621" y="4678480"/>
                  <a:pt x="4678480" y="3836621"/>
                  <a:pt x="4678480" y="2798136"/>
                </a:cubicBezTo>
                <a:cubicBezTo>
                  <a:pt x="4678480" y="1759651"/>
                  <a:pt x="3836621" y="917792"/>
                  <a:pt x="2798136" y="917792"/>
                </a:cubicBezTo>
                <a:close/>
                <a:moveTo>
                  <a:pt x="2798137" y="0"/>
                </a:moveTo>
                <a:cubicBezTo>
                  <a:pt x="4343505" y="0"/>
                  <a:pt x="5596274" y="1252769"/>
                  <a:pt x="5596274" y="2798137"/>
                </a:cubicBezTo>
                <a:cubicBezTo>
                  <a:pt x="5596274" y="4343505"/>
                  <a:pt x="4343505" y="5596274"/>
                  <a:pt x="2798137" y="5596274"/>
                </a:cubicBezTo>
                <a:cubicBezTo>
                  <a:pt x="1252769" y="5596274"/>
                  <a:pt x="0" y="4343505"/>
                  <a:pt x="0" y="2798137"/>
                </a:cubicBezTo>
                <a:cubicBezTo>
                  <a:pt x="0" y="1252769"/>
                  <a:pt x="1252769" y="0"/>
                  <a:pt x="27981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Isosceles Triangle 19"/>
          <p:cNvSpPr/>
          <p:nvPr/>
        </p:nvSpPr>
        <p:spPr>
          <a:xfrm rot="19827000">
            <a:off x="11493360" y="3200040"/>
            <a:ext cx="493920" cy="4255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7913520" y="6114960"/>
            <a:ext cx="306720" cy="308160"/>
          </a:xfrm>
          <a:prstGeom prst="rect">
            <a:avLst/>
          </a:prstGeom>
          <a:noFill/>
          <a:ln w="38160">
            <a:solidFill>
              <a:srgbClr val="ef2f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Multiply 22"/>
          <p:cNvSpPr/>
          <p:nvPr/>
        </p:nvSpPr>
        <p:spPr>
          <a:xfrm rot="2208000">
            <a:off x="782280" y="496800"/>
            <a:ext cx="695160" cy="696960"/>
          </a:xfrm>
          <a:custGeom>
            <a:avLst/>
            <a:gdLst/>
            <a:ahLst/>
            <a:rect l="l" t="t" r="r" b="b"/>
            <a:pathLst>
              <a:path w="696686" h="696686">
                <a:moveTo>
                  <a:pt x="135052" y="199601"/>
                </a:moveTo>
                <a:lnTo>
                  <a:pt x="199601" y="135052"/>
                </a:lnTo>
                <a:lnTo>
                  <a:pt x="348343" y="283794"/>
                </a:lnTo>
                <a:lnTo>
                  <a:pt x="497085" y="135052"/>
                </a:lnTo>
                <a:lnTo>
                  <a:pt x="561634" y="199601"/>
                </a:lnTo>
                <a:lnTo>
                  <a:pt x="412892" y="348343"/>
                </a:lnTo>
                <a:lnTo>
                  <a:pt x="561634" y="497085"/>
                </a:lnTo>
                <a:lnTo>
                  <a:pt x="497085" y="561634"/>
                </a:lnTo>
                <a:lnTo>
                  <a:pt x="348343" y="412892"/>
                </a:lnTo>
                <a:lnTo>
                  <a:pt x="199601" y="561634"/>
                </a:lnTo>
                <a:lnTo>
                  <a:pt x="135052" y="497085"/>
                </a:lnTo>
                <a:lnTo>
                  <a:pt x="283794" y="348343"/>
                </a:lnTo>
                <a:lnTo>
                  <a:pt x="135052" y="199601"/>
                </a:lnTo>
                <a:close/>
              </a:path>
            </a:pathLst>
          </a:custGeom>
          <a:solidFill>
            <a:srgbClr val="72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3"/>
          <p:cNvSpPr/>
          <p:nvPr/>
        </p:nvSpPr>
        <p:spPr>
          <a:xfrm rot="16200000">
            <a:off x="-1079640" y="2261160"/>
            <a:ext cx="34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 Light"/>
                <a:ea typeface="Montserrat"/>
              </a:rPr>
              <a:t>www.fantastic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4"/>
          <p:cNvGrpSpPr/>
          <p:nvPr/>
        </p:nvGrpSpPr>
        <p:grpSpPr>
          <a:xfrm>
            <a:off x="2529000" y="2367000"/>
            <a:ext cx="4400280" cy="1119600"/>
            <a:chOff x="2529000" y="2367000"/>
            <a:chExt cx="4400280" cy="1119600"/>
          </a:xfrm>
        </p:grpSpPr>
        <p:sp>
          <p:nvSpPr>
            <p:cNvPr id="124" name="TextBox 25"/>
            <p:cNvSpPr/>
            <p:nvPr/>
          </p:nvSpPr>
          <p:spPr>
            <a:xfrm>
              <a:off x="2529000" y="2367000"/>
              <a:ext cx="44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otham Ultra"/>
                  <a:ea typeface="Roboto"/>
                </a:rPr>
                <a:t>AWESOM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26"/>
            <p:cNvSpPr/>
            <p:nvPr/>
          </p:nvSpPr>
          <p:spPr>
            <a:xfrm>
              <a:off x="2529000" y="2844000"/>
              <a:ext cx="44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otham Ultra"/>
                  <a:ea typeface="Roboto"/>
                </a:rPr>
                <a:t>IMAG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Rectangle 14"/>
          <p:cNvSpPr/>
          <p:nvPr/>
        </p:nvSpPr>
        <p:spPr>
          <a:xfrm>
            <a:off x="5072040" y="4473720"/>
            <a:ext cx="2994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oppins Light"/>
                <a:ea typeface="Source Sans Pro"/>
              </a:rPr>
              <a:t>Lorem ipsum dolor sit amet, consectetur adipiscing elit. Maecenas venenatis, enim viverra volutpat placerat, nibh ante rutrum e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5072040" y="4098960"/>
            <a:ext cx="34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Poppins Light"/>
                <a:ea typeface="Montserrat"/>
              </a:rPr>
              <a:t>Awesome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: Shape 48"/>
          <p:cNvSpPr/>
          <p:nvPr/>
        </p:nvSpPr>
        <p:spPr>
          <a:xfrm>
            <a:off x="5902200" y="-3083040"/>
            <a:ext cx="4329360" cy="4329360"/>
          </a:xfrm>
          <a:custGeom>
            <a:avLst/>
            <a:gdLst/>
            <a:ahLst/>
            <a:rect l="l" t="t" r="r" b="b"/>
            <a:pathLst>
              <a:path w="5596274" h="5596274">
                <a:moveTo>
                  <a:pt x="2798136" y="917792"/>
                </a:moveTo>
                <a:cubicBezTo>
                  <a:pt x="1759651" y="917792"/>
                  <a:pt x="917792" y="1759651"/>
                  <a:pt x="917792" y="2798136"/>
                </a:cubicBezTo>
                <a:cubicBezTo>
                  <a:pt x="917792" y="3836621"/>
                  <a:pt x="1759651" y="4678480"/>
                  <a:pt x="2798136" y="4678480"/>
                </a:cubicBezTo>
                <a:cubicBezTo>
                  <a:pt x="3836621" y="4678480"/>
                  <a:pt x="4678480" y="3836621"/>
                  <a:pt x="4678480" y="2798136"/>
                </a:cubicBezTo>
                <a:cubicBezTo>
                  <a:pt x="4678480" y="1759651"/>
                  <a:pt x="3836621" y="917792"/>
                  <a:pt x="2798136" y="917792"/>
                </a:cubicBezTo>
                <a:close/>
                <a:moveTo>
                  <a:pt x="2798137" y="0"/>
                </a:moveTo>
                <a:cubicBezTo>
                  <a:pt x="4343505" y="0"/>
                  <a:pt x="5596274" y="1252769"/>
                  <a:pt x="5596274" y="2798137"/>
                </a:cubicBezTo>
                <a:cubicBezTo>
                  <a:pt x="5596274" y="4343505"/>
                  <a:pt x="4343505" y="5596274"/>
                  <a:pt x="2798137" y="5596274"/>
                </a:cubicBezTo>
                <a:cubicBezTo>
                  <a:pt x="1252769" y="5596274"/>
                  <a:pt x="0" y="4343505"/>
                  <a:pt x="0" y="2798137"/>
                </a:cubicBezTo>
                <a:cubicBezTo>
                  <a:pt x="0" y="1252769"/>
                  <a:pt x="1252769" y="0"/>
                  <a:pt x="2798137" y="0"/>
                </a:cubicBezTo>
                <a:close/>
              </a:path>
            </a:pathLst>
          </a:custGeom>
          <a:solidFill>
            <a:srgbClr val="ef2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5219640" y="1746360"/>
            <a:ext cx="6972480" cy="2404800"/>
          </a:xfrm>
          <a:prstGeom prst="rect">
            <a:avLst/>
          </a:prstGeom>
          <a:solidFill>
            <a:srgbClr val="55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918040" y="1238400"/>
            <a:ext cx="2859120" cy="5018040"/>
            <a:chOff x="5918040" y="1238400"/>
            <a:chExt cx="2859120" cy="5018040"/>
          </a:xfrm>
        </p:grpSpPr>
        <p:pic>
          <p:nvPicPr>
            <p:cNvPr id="131" name="Picture 2" descr=""/>
            <p:cNvPicPr/>
            <p:nvPr/>
          </p:nvPicPr>
          <p:blipFill>
            <a:blip r:embed="rId1"/>
            <a:stretch/>
          </p:blipFill>
          <p:spPr>
            <a:xfrm>
              <a:off x="5918040" y="1238400"/>
              <a:ext cx="285912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3"/>
            <p:cNvSpPr/>
            <p:nvPr/>
          </p:nvSpPr>
          <p:spPr>
            <a:xfrm>
              <a:off x="6330960" y="1776600"/>
              <a:ext cx="1967760" cy="347400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"/>
          <p:cNvGrpSpPr/>
          <p:nvPr/>
        </p:nvGrpSpPr>
        <p:grpSpPr>
          <a:xfrm>
            <a:off x="8205840" y="1251000"/>
            <a:ext cx="2859120" cy="5018040"/>
            <a:chOff x="8205840" y="1251000"/>
            <a:chExt cx="2859120" cy="5018040"/>
          </a:xfrm>
        </p:grpSpPr>
        <p:pic>
          <p:nvPicPr>
            <p:cNvPr id="134" name="Picture 5" descr=""/>
            <p:cNvPicPr/>
            <p:nvPr/>
          </p:nvPicPr>
          <p:blipFill>
            <a:blip r:embed="rId2"/>
            <a:stretch/>
          </p:blipFill>
          <p:spPr>
            <a:xfrm>
              <a:off x="8205840" y="1251000"/>
              <a:ext cx="285912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6"/>
            <p:cNvSpPr/>
            <p:nvPr/>
          </p:nvSpPr>
          <p:spPr>
            <a:xfrm>
              <a:off x="8618760" y="1789200"/>
              <a:ext cx="1967760" cy="347400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12"/>
          <p:cNvGrpSpPr/>
          <p:nvPr/>
        </p:nvGrpSpPr>
        <p:grpSpPr>
          <a:xfrm>
            <a:off x="747720" y="1957320"/>
            <a:ext cx="4400640" cy="1890360"/>
            <a:chOff x="747720" y="1957320"/>
            <a:chExt cx="4400640" cy="1890360"/>
          </a:xfrm>
        </p:grpSpPr>
        <p:sp>
          <p:nvSpPr>
            <p:cNvPr id="137" name="TextBox 13"/>
            <p:cNvSpPr/>
            <p:nvPr/>
          </p:nvSpPr>
          <p:spPr>
            <a:xfrm>
              <a:off x="747720" y="1957320"/>
              <a:ext cx="440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724099"/>
                  </a:solidFill>
                  <a:latin typeface="Gotham Ultra"/>
                  <a:ea typeface="Roboto"/>
                </a:rPr>
                <a:t>F</a:t>
              </a:r>
              <a:r>
                <a:rPr b="0" lang="en-US" sz="6600" spc="-1" strike="noStrike">
                  <a:solidFill>
                    <a:srgbClr val="ffab19"/>
                  </a:solidFill>
                  <a:latin typeface="Gotham Ultra"/>
                  <a:ea typeface="Roboto"/>
                </a:rPr>
                <a:t>U</a:t>
              </a:r>
              <a:r>
                <a:rPr b="0" lang="en-US" sz="6600" spc="-1" strike="noStrike">
                  <a:solidFill>
                    <a:srgbClr val="ef2f58"/>
                  </a:solidFill>
                  <a:latin typeface="Gotham Ultra"/>
                  <a:ea typeface="Roboto"/>
                </a:rPr>
                <a:t>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14"/>
            <p:cNvSpPr/>
            <p:nvPr/>
          </p:nvSpPr>
          <p:spPr>
            <a:xfrm>
              <a:off x="747720" y="2748240"/>
              <a:ext cx="440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55bf91"/>
                  </a:solidFill>
                  <a:latin typeface="Gotham Ultra"/>
                  <a:ea typeface="Roboto"/>
                </a:rPr>
                <a:t>C</a:t>
              </a:r>
              <a:r>
                <a:rPr b="0" lang="en-US" sz="6600" spc="-1" strike="noStrike">
                  <a:solidFill>
                    <a:srgbClr val="ef2f58"/>
                  </a:solidFill>
                  <a:latin typeface="Gotham Ultra"/>
                  <a:ea typeface="Roboto"/>
                </a:rPr>
                <a:t>O</a:t>
              </a:r>
              <a:r>
                <a:rPr b="0" lang="en-US" sz="6600" spc="-1" strike="noStrike">
                  <a:solidFill>
                    <a:srgbClr val="55bf91"/>
                  </a:solidFill>
                  <a:latin typeface="Gotham Ultra"/>
                  <a:ea typeface="Roboto"/>
                </a:rPr>
                <a:t>L</a:t>
              </a:r>
              <a:r>
                <a:rPr b="0" lang="en-US" sz="6600" spc="-1" strike="noStrike">
                  <a:solidFill>
                    <a:srgbClr val="724099"/>
                  </a:solidFill>
                  <a:latin typeface="Gotham Ultra"/>
                  <a:ea typeface="Roboto"/>
                </a:rPr>
                <a:t>O</a:t>
              </a:r>
              <a:r>
                <a:rPr b="0" lang="en-US" sz="6600" spc="-1" strike="noStrike">
                  <a:solidFill>
                    <a:srgbClr val="ffab19"/>
                  </a:solidFill>
                  <a:latin typeface="Gotham Ultra"/>
                  <a:ea typeface="Roboto"/>
                </a:rPr>
                <a:t>U</a:t>
              </a:r>
              <a:r>
                <a:rPr b="0" lang="en-US" sz="6600" spc="-1" strike="noStrike">
                  <a:solidFill>
                    <a:srgbClr val="ef2f58"/>
                  </a:solidFill>
                  <a:latin typeface="Gotham Ultra"/>
                  <a:ea typeface="Roboto"/>
                </a:rPr>
                <a:t>R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TextBox 15"/>
          <p:cNvSpPr/>
          <p:nvPr/>
        </p:nvSpPr>
        <p:spPr>
          <a:xfrm>
            <a:off x="770040" y="4246560"/>
            <a:ext cx="34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ppins Light"/>
                <a:ea typeface="Montserrat"/>
              </a:rPr>
              <a:t>MOCKUP PH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770040" y="4646520"/>
            <a:ext cx="2612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oppins Light"/>
                <a:ea typeface="Source Sans Pro"/>
              </a:rPr>
              <a:t>Lorem ipsum dolor sit amet, consectetur adipiscing elit. Maecenas venenatis, enim viverra volutpat placerat, nibh ante rutrum e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Multiply 17"/>
          <p:cNvSpPr/>
          <p:nvPr/>
        </p:nvSpPr>
        <p:spPr>
          <a:xfrm rot="2208000">
            <a:off x="4530240" y="5802120"/>
            <a:ext cx="695520" cy="696600"/>
          </a:xfrm>
          <a:custGeom>
            <a:avLst/>
            <a:gdLst/>
            <a:ahLst/>
            <a:rect l="l" t="t" r="r" b="b"/>
            <a:pathLst>
              <a:path w="696686" h="696686">
                <a:moveTo>
                  <a:pt x="135052" y="199601"/>
                </a:moveTo>
                <a:lnTo>
                  <a:pt x="199601" y="135052"/>
                </a:lnTo>
                <a:lnTo>
                  <a:pt x="348343" y="283794"/>
                </a:lnTo>
                <a:lnTo>
                  <a:pt x="497085" y="135052"/>
                </a:lnTo>
                <a:lnTo>
                  <a:pt x="561634" y="199601"/>
                </a:lnTo>
                <a:lnTo>
                  <a:pt x="412892" y="348343"/>
                </a:lnTo>
                <a:lnTo>
                  <a:pt x="561634" y="497085"/>
                </a:lnTo>
                <a:lnTo>
                  <a:pt x="497085" y="561634"/>
                </a:lnTo>
                <a:lnTo>
                  <a:pt x="348343" y="412892"/>
                </a:lnTo>
                <a:lnTo>
                  <a:pt x="199601" y="561634"/>
                </a:lnTo>
                <a:lnTo>
                  <a:pt x="135052" y="497085"/>
                </a:lnTo>
                <a:lnTo>
                  <a:pt x="283794" y="348343"/>
                </a:lnTo>
                <a:lnTo>
                  <a:pt x="135052" y="199601"/>
                </a:lnTo>
                <a:close/>
              </a:path>
            </a:pathLst>
          </a:custGeom>
          <a:solidFill>
            <a:srgbClr val="ef2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Isosceles Triangle 18"/>
          <p:cNvSpPr/>
          <p:nvPr/>
        </p:nvSpPr>
        <p:spPr>
          <a:xfrm rot="19827000">
            <a:off x="10659960" y="434520"/>
            <a:ext cx="493920" cy="4255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ab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-1744560" y="-1712880"/>
            <a:ext cx="3489120" cy="3489120"/>
          </a:xfrm>
          <a:prstGeom prst="ellipse">
            <a:avLst/>
          </a:prstGeom>
          <a:solidFill>
            <a:srgbClr val="ef2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: Shape 48"/>
          <p:cNvSpPr/>
          <p:nvPr/>
        </p:nvSpPr>
        <p:spPr>
          <a:xfrm>
            <a:off x="61920" y="-3005280"/>
            <a:ext cx="4329000" cy="4329360"/>
          </a:xfrm>
          <a:custGeom>
            <a:avLst/>
            <a:gdLst/>
            <a:ahLst/>
            <a:rect l="l" t="t" r="r" b="b"/>
            <a:pathLst>
              <a:path w="5596274" h="5596274">
                <a:moveTo>
                  <a:pt x="2798136" y="917792"/>
                </a:moveTo>
                <a:cubicBezTo>
                  <a:pt x="1759651" y="917792"/>
                  <a:pt x="917792" y="1759651"/>
                  <a:pt x="917792" y="2798136"/>
                </a:cubicBezTo>
                <a:cubicBezTo>
                  <a:pt x="917792" y="3836621"/>
                  <a:pt x="1759651" y="4678480"/>
                  <a:pt x="2798136" y="4678480"/>
                </a:cubicBezTo>
                <a:cubicBezTo>
                  <a:pt x="3836621" y="4678480"/>
                  <a:pt x="4678480" y="3836621"/>
                  <a:pt x="4678480" y="2798136"/>
                </a:cubicBezTo>
                <a:cubicBezTo>
                  <a:pt x="4678480" y="1759651"/>
                  <a:pt x="3836621" y="917792"/>
                  <a:pt x="2798136" y="917792"/>
                </a:cubicBezTo>
                <a:close/>
                <a:moveTo>
                  <a:pt x="2798137" y="0"/>
                </a:moveTo>
                <a:cubicBezTo>
                  <a:pt x="4343505" y="0"/>
                  <a:pt x="5596274" y="1252769"/>
                  <a:pt x="5596274" y="2798137"/>
                </a:cubicBezTo>
                <a:cubicBezTo>
                  <a:pt x="5596274" y="4343505"/>
                  <a:pt x="4343505" y="5596274"/>
                  <a:pt x="2798137" y="5596274"/>
                </a:cubicBezTo>
                <a:cubicBezTo>
                  <a:pt x="1252769" y="5596274"/>
                  <a:pt x="0" y="4343505"/>
                  <a:pt x="0" y="2798137"/>
                </a:cubicBezTo>
                <a:cubicBezTo>
                  <a:pt x="0" y="1252769"/>
                  <a:pt x="1252769" y="0"/>
                  <a:pt x="2798137" y="0"/>
                </a:cubicBezTo>
                <a:close/>
              </a:path>
            </a:pathLst>
          </a:custGeom>
          <a:solidFill>
            <a:srgbClr val="55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342120" y="1782360"/>
            <a:ext cx="1968480" cy="3481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8610120" y="1782360"/>
            <a:ext cx="199404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8T03:01:10Z</dcterms:created>
  <dc:creator>luthfy duana</dc:creator>
  <dc:description/>
  <dc:language>en-US</dc:language>
  <cp:lastModifiedBy>luthfy duana</cp:lastModifiedBy>
  <dcterms:modified xsi:type="dcterms:W3CDTF">2019-12-29T11:06:01Z</dcterms:modified>
  <cp:revision>60</cp:revision>
  <dc:subject/>
  <dc:title>PowerPoint Presentation</dc:title>
</cp:coreProperties>
</file>